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E409-171C-4ED3-9AC4-F23D1D6F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8366-62F5-4418-AD85-B616FE1C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117D-595C-4DF1-9E11-8F0363D2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1A80-E777-48CE-B877-E9E9E01C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EBA0-A4CC-4EEC-92B5-EA0E3234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8E37-4C66-4172-BAC8-216EC532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41DA-84EC-4002-8C67-87C7C907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7281-9429-4D08-B89E-13FB3143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538F-0725-4A0F-A3E0-7AE43B73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BD9B-2A47-4FAE-8A2D-334533CD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CEBC-29A0-43F5-AB98-2A42D7D0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B978-491D-4CAD-B8B6-1359E81D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9765-A3B7-4D87-9D84-B98F4C44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A41F-BFAB-42AB-A2F3-343D05D4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4698-DCE9-4975-8081-60CBB57C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C5FC-552C-4ADA-A36D-10784F60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CC1A-BEE8-4A58-8E00-68847E22C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B1AC-CB63-4A59-A68F-52D616B6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A736-B9C3-4575-A6E9-17F7E24D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A876-1700-4723-B872-A51AFA6B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3776-D0FB-4965-BF5B-E7B6D6FC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7D4F-11CE-434E-9EC4-1276F320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BA7A-C7E5-4B97-9065-3DC34CB2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FBCC-7769-480B-9DDD-BB4AAD15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E7FA-4925-4B18-B021-509D3465376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EBE2-B8E9-4A6A-B361-16990FBEA35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LENIN IS MY HOMBO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roadway"/>
              </a:rPr>
              <a:t>BY: KEITH DENNI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"/>
          <p:cNvSpPr/>
          <p:nvPr/>
        </p:nvSpPr>
        <p:spPr>
          <a:xfrm>
            <a:off x="390852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laybill"/>
              </a:rPr>
              <a:t>VLADIMIR LEN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Playbi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laybil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Playbill"/>
              </a:rPr>
              <a:t>LED THE RUSSIAN REVOLU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Playbi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laybil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Playbill"/>
              </a:rPr>
              <a:t>DEFEATED CZAR NICHOLAS I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Playbi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laybil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Playbill"/>
              </a:rPr>
              <a:t>CREATED THE UNION OF SOVIET SOCIALIST REPUBLICS, OR U.S.S.R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Playbi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laybil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Playbill"/>
              </a:rPr>
              <a:t>SPREAD COMMUNIS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Playbi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laybil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Playbill"/>
              </a:rPr>
              <a:t>REGARDED AS A HERO IN RUSSIA TODA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6477120" y="380880"/>
            <a:ext cx="9144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erlin Sans FB Demi"/>
              </a:rPr>
              <a:t>RUSSIAN REVOLU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erlin Sans FB Demi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Berlin Sans FB Demi"/>
              </a:rPr>
              <a:t>LED BY VLADIMIR LENIN AND HIS FOLLOWE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erlin Sans FB Demi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Berlin Sans FB Demi"/>
              </a:rPr>
              <a:t>AGAINST THE CZA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erlin Sans FB Demi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Berlin Sans FB Demi"/>
              </a:rPr>
              <a:t>LENIN AND HIS FOLLOWERS WERE VICTORIOU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erlin Sans FB Demi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Berlin Sans FB Demi"/>
              </a:rPr>
              <a:t>EVENT WAS IN 1917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THE RISE OF STAL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stellar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Castellar"/>
              </a:rPr>
              <a:t>AFTER LENIN DIED, JOSEPH STALIN BECAME LEAD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stellar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Castellar"/>
              </a:rPr>
              <a:t>HE WAS REGARED AS A GREAT GENERA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stellar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Castellar"/>
              </a:rPr>
              <a:t>THE RUSSIAN PEOPLE DIDN’T LIKE STALIN AS A LEADER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stellar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Castellar"/>
              </a:rPr>
              <a:t>HE DIDN’T CARE FOR THE RUSSIAN PEOPL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stellar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Castellar"/>
              </a:rPr>
              <a:t>stalin started the gulag, which were a series of government prison camp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PACE RACE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SOVIETS AND U.S. HAD A RA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RACE WAS TO SEE WHO WOULD GET INTO SPACE FIRS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SOVIETS WON THE RACE IN 1957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UT THE U.S. WERE THE FIRST ON THE MO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"/>
          <p:cNvSpPr/>
          <p:nvPr/>
        </p:nvSpPr>
        <p:spPr>
          <a:xfrm>
            <a:off x="390852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20:05:50Z</dcterms:created>
  <dc:creator> </dc:creator>
  <dc:description/>
  <dc:language>en-US</dc:language>
  <cp:lastModifiedBy>QPS</cp:lastModifiedBy>
  <dcterms:modified xsi:type="dcterms:W3CDTF">2010-04-27T06:33:29Z</dcterms:modified>
  <cp:revision>5</cp:revision>
  <dc:subject/>
  <dc:title>LENIN IS MY HOMBOY</dc:title>
</cp:coreProperties>
</file>